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A0F-EBC8-40CD-BF75-0D73BBFF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776-F1DF-4D3D-A1FE-F338E3CC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217-2A5E-40D6-9394-1C15A04E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C78-A839-4222-B935-19B0F00F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717-C2B7-4381-875A-D930BD6B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3B9-8F00-4F20-892B-40EC5551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5F0-A15D-496D-A2E3-AA65635D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E5E-7196-48CE-8E63-95D32EBE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EDB-65CC-4A07-90EE-6851BF6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EDD-8BC9-4C9C-86CD-AECA52F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2AD-B6EA-4F08-8066-6C913BD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896-5346-4024-BB37-B3DFEE1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A69C-05F0-404A-B73D-6CDA47F1BA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ACCESSO MULTIPLO DI SORGENTI DI TRAFFICO CON REQUISITI DI QUALITA’ DEL SERVIZIO IN WLAN CENTRALIZZ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Relatore: Prof.ssa Maria Gabriella Di Bened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Correlatore: Ing. Guerino Giancola   </a:t>
            </a: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864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Garamond"/>
              </a:rPr>
              <a:t>Tesi di: Marialuisa Po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76320"/>
          <a:ext cx="10335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10335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182880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2438280"/>
            <a:ext cx="8610480" cy="4343400"/>
          </a:xfrm>
          <a:prstGeom prst="roundRect">
            <a:avLst>
              <a:gd name="adj" fmla="val 18056"/>
            </a:avLst>
          </a:prstGeom>
          <a:gradFill rotWithShape="0">
            <a:gsLst>
              <a:gs pos="0">
                <a:srgbClr val="666699"/>
              </a:gs>
              <a:gs pos="100000">
                <a:srgbClr val="caca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: HTTP 1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45124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ametri del mod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vello di sess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Tempo di interarrivo tra sessioni: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Garamond"/>
              </a:rPr>
              <a:t>distribuzione esponenziale negativa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Pagine per sessione, numero di pagine visitate in una 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sessione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: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Garamond"/>
              </a:rPr>
              <a:t>distribuzione LogNormale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91120"/>
            <a:ext cx="6324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vello di pagin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100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Tempo tra due pagine (viewing time) :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Garamond"/>
              </a:rPr>
              <a:t>distribuzione Gamma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100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Dimensione della pagina :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Garamond"/>
              </a:rPr>
              <a:t>distribuzione di Pareto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46720"/>
            <a:ext cx="6934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vello di pacchet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100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Tempo di interarrivo dei pacchetti :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Garamond"/>
              </a:rPr>
              <a:t>distribuzione esponenziale negativa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100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Dimensione dei pacchetti : </a:t>
            </a:r>
            <a:r>
              <a:rPr b="1" lang="en-US" sz="1600" spc="-1" strike="noStrike" u="sng">
                <a:solidFill>
                  <a:srgbClr val="003366"/>
                </a:solidFill>
                <a:uFillTx/>
                <a:latin typeface="Garamond"/>
              </a:rPr>
              <a:t>distribuzione multimodale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05120"/>
            <a:ext cx="7467480" cy="380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282600" indent="-217440" algn="ctr"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1333440"/>
                <a:tab algn="l" pos="238752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  <a:tab algn="l" pos="7900920"/>
                <a:tab algn="l" pos="8277120"/>
                <a:tab algn="l" pos="8653320"/>
                <a:tab algn="l" pos="9029880"/>
                <a:tab algn="l" pos="9406080"/>
                <a:tab algn="l" pos="97822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Caratterizzazione a livello di singola se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: HTTP 2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Sorgenti HTTP</a:t>
            </a: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 :</a:t>
            </a: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andamento delle distribuzioni statistiche dei parametri di mo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68600" y="2514600"/>
            <a:ext cx="5798880" cy="4238640"/>
            <a:chOff x="1668600" y="2514600"/>
            <a:chExt cx="5798880" cy="423864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1668600" y="2514600"/>
              <a:ext cx="579888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02480" y="6324480"/>
              <a:ext cx="451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Funzione densità di probabilità della dimensione delle pagine:distribuzione di Pare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: HTTP 3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Sorgenti HTTP : risultati delle simulazioni del modello di traf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2362320"/>
            <a:ext cx="2919600" cy="2462040"/>
            <a:chOff x="152280" y="2362320"/>
            <a:chExt cx="2919600" cy="2462040"/>
          </a:xfrm>
        </p:grpSpPr>
        <p:pic>
          <p:nvPicPr>
            <p:cNvPr id="179" name="" descr=""/>
            <p:cNvPicPr/>
            <p:nvPr/>
          </p:nvPicPr>
          <p:blipFill>
            <a:blip r:embed="rId4"/>
            <a:stretch/>
          </p:blipFill>
          <p:spPr>
            <a:xfrm>
              <a:off x="152280" y="2362320"/>
              <a:ext cx="29196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52280" y="4551480"/>
              <a:ext cx="2346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Dimensione delle pagine di una sessione HTT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943600" y="2322360"/>
            <a:ext cx="2968560" cy="2554560"/>
            <a:chOff x="5943600" y="2322360"/>
            <a:chExt cx="2968560" cy="2554560"/>
          </a:xfrm>
        </p:grpSpPr>
        <p:sp>
          <p:nvSpPr>
            <p:cNvPr id="182" name=""/>
            <p:cNvSpPr/>
            <p:nvPr/>
          </p:nvSpPr>
          <p:spPr>
            <a:xfrm>
              <a:off x="5949720" y="4599360"/>
              <a:ext cx="2496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Dimensioni dei pacchetti IP generati in una sessione HTT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5943600" y="2322360"/>
              <a:ext cx="2968560" cy="222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3124080" y="4419720"/>
            <a:ext cx="2778120" cy="2514600"/>
            <a:chOff x="3124080" y="4419720"/>
            <a:chExt cx="2778120" cy="251460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3124080" y="4419720"/>
              <a:ext cx="2778120" cy="20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0920" y="6477120"/>
              <a:ext cx="20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Dimensione dei pacchetti IP in una sessione HTTP  :particola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2438280"/>
            <a:ext cx="8839440" cy="426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99"/>
              </a:gs>
              <a:gs pos="100000">
                <a:srgbClr val="caca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FTP 1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1905120"/>
            <a:ext cx="533412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282600" indent="-217440" algn="just"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1333440"/>
                <a:tab algn="l" pos="238752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  <a:tab algn="l" pos="7900920"/>
                <a:tab algn="l" pos="8277120"/>
                <a:tab algn="l" pos="8653320"/>
                <a:tab algn="l" pos="9029880"/>
                <a:tab algn="l" pos="9406080"/>
                <a:tab algn="l" pos="9782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aratterizzazione a livello di s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124080"/>
            <a:ext cx="81536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190440">
              <a:lnSpc>
                <a:spcPct val="130000"/>
              </a:lnSpc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101520"/>
                <a:tab algn="l" pos="76212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Livello di sessione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 : trasferimento di file mediante protocollo FT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190440">
              <a:lnSpc>
                <a:spcPct val="130000"/>
              </a:lnSpc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101520"/>
                <a:tab algn="l" pos="76212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Livello di pacchetto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 : trasmissione dei singoli pacchet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1148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arametri di model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4494240"/>
            <a:ext cx="82296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vello di sess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Tempo di interarrivo delle sessioni :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distribuzione esponenziale negativ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Dimensione della sessione :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distribuzione di Par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408640"/>
            <a:ext cx="6933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vello di pacchet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Tempo di interarrivo dei pacchetti :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distribuzione esponenziale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Dimensione dei pacchetti :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distribuzione multimo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2590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1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Liv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FTP 2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Andamento delle distribuzioni statistiche del mode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2438280"/>
            <a:ext cx="5791320" cy="4038840"/>
            <a:chOff x="1600200" y="2438280"/>
            <a:chExt cx="5791320" cy="4038840"/>
          </a:xfrm>
        </p:grpSpPr>
        <p:sp>
          <p:nvSpPr>
            <p:cNvPr id="204" name=""/>
            <p:cNvSpPr/>
            <p:nvPr/>
          </p:nvSpPr>
          <p:spPr>
            <a:xfrm>
              <a:off x="1600200" y="5953680"/>
              <a:ext cx="550368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Funzione densità di probabilità della durata di una sessione FTP: distribuzione di Pare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1600200" y="2438280"/>
              <a:ext cx="5791320" cy="351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FTP 3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19051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Risultati delle simulazioni del modello di traff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2494080"/>
            <a:ext cx="2971800" cy="2819160"/>
            <a:chOff x="0" y="2494080"/>
            <a:chExt cx="2971800" cy="2819160"/>
          </a:xfrm>
        </p:grpSpPr>
        <p:sp>
          <p:nvSpPr>
            <p:cNvPr id="212" name=""/>
            <p:cNvSpPr/>
            <p:nvPr/>
          </p:nvSpPr>
          <p:spPr>
            <a:xfrm>
              <a:off x="0" y="5057640"/>
              <a:ext cx="27219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Istanti di nascita e dimensioni delle sessioni FTP nell’intervallo di osserv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4"/>
            <a:stretch/>
          </p:blipFill>
          <p:spPr>
            <a:xfrm>
              <a:off x="0" y="2494080"/>
              <a:ext cx="2971800" cy="256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3083040" y="4024440"/>
            <a:ext cx="2973240" cy="2756880"/>
            <a:chOff x="3083040" y="4024440"/>
            <a:chExt cx="2973240" cy="2756880"/>
          </a:xfrm>
        </p:grpSpPr>
        <p:sp>
          <p:nvSpPr>
            <p:cNvPr id="215" name=""/>
            <p:cNvSpPr/>
            <p:nvPr/>
          </p:nvSpPr>
          <p:spPr>
            <a:xfrm>
              <a:off x="3083040" y="6591240"/>
              <a:ext cx="297324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Pacchetti IP generati nelle sessioni FT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5"/>
            <a:stretch/>
          </p:blipFill>
          <p:spPr>
            <a:xfrm>
              <a:off x="3083040" y="4024440"/>
              <a:ext cx="2973240" cy="25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6170760" y="2494080"/>
            <a:ext cx="2973240" cy="2687040"/>
            <a:chOff x="6170760" y="2494080"/>
            <a:chExt cx="2973240" cy="2687040"/>
          </a:xfrm>
        </p:grpSpPr>
        <p:sp>
          <p:nvSpPr>
            <p:cNvPr id="218" name=""/>
            <p:cNvSpPr/>
            <p:nvPr/>
          </p:nvSpPr>
          <p:spPr>
            <a:xfrm>
              <a:off x="6170760" y="5053320"/>
              <a:ext cx="296388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Pacchetti IP generati in una sessione FT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6"/>
            <a:stretch/>
          </p:blipFill>
          <p:spPr>
            <a:xfrm>
              <a:off x="6170760" y="2494080"/>
              <a:ext cx="2973240" cy="256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ON-OFF 1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743200" y="3886200"/>
            <a:ext cx="3352680" cy="914400"/>
            <a:chOff x="2743200" y="3886200"/>
            <a:chExt cx="3352680" cy="914400"/>
          </a:xfrm>
        </p:grpSpPr>
        <p:sp>
          <p:nvSpPr>
            <p:cNvPr id="225" name=""/>
            <p:cNvSpPr/>
            <p:nvPr/>
          </p:nvSpPr>
          <p:spPr>
            <a:xfrm>
              <a:off x="2743200" y="3886200"/>
              <a:ext cx="3352680" cy="914400"/>
            </a:xfrm>
            <a:prstGeom prst="downArrowCallout">
              <a:avLst>
                <a:gd name="adj1" fmla="val 29505"/>
                <a:gd name="adj2" fmla="val 45492"/>
                <a:gd name="adj3" fmla="val 28644"/>
                <a:gd name="adj4" fmla="val 5469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886200"/>
              <a:ext cx="32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Parametri di model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2280" y="4816440"/>
            <a:ext cx="8839440" cy="14320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1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requenza di interarrivo delle sessioni 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distribuzione esponenziale negati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urata della chiamata 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distribuzione Gamm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urata periodo di attività 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distribuzione esponenziale negati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urata periodo di silenzio 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distribuzione esponenziale negati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6324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La trasmissione dei pacchetti avviene nei periodi di attività al rate di pic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09480" y="1905120"/>
            <a:ext cx="7848720" cy="1660320"/>
            <a:chOff x="609480" y="1905120"/>
            <a:chExt cx="7848720" cy="1660320"/>
          </a:xfrm>
        </p:grpSpPr>
        <p:sp>
          <p:nvSpPr>
            <p:cNvPr id="230" name=""/>
            <p:cNvSpPr/>
            <p:nvPr/>
          </p:nvSpPr>
          <p:spPr>
            <a:xfrm>
              <a:off x="609480" y="1905120"/>
              <a:ext cx="7848720" cy="166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a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57240" y="2122560"/>
              <a:ext cx="7153200" cy="13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105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8000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Modello del traffico vocale con codifica ADP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 algn="just">
                <a:lnSpc>
                  <a:spcPct val="105000"/>
                </a:lnSpc>
                <a:spcAft>
                  <a:spcPts val="113"/>
                </a:spcAft>
                <a:buClr>
                  <a:srgbClr val="8000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La caratterizzazione avviene a livello di singola sess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 algn="just">
                <a:lnSpc>
                  <a:spcPct val="105000"/>
                </a:lnSpc>
                <a:spcAft>
                  <a:spcPts val="125"/>
                </a:spcAft>
                <a:buClr>
                  <a:srgbClr val="8000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Il processo di generazione del traffico consiste nell’ alternarsi di periodi di attività e periodi di silenzio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ON-OFF 2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9810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Andamento delle distribuzioni dei parametri di mod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47920" y="2438280"/>
            <a:ext cx="6248160" cy="4130640"/>
            <a:chOff x="1447920" y="2438280"/>
            <a:chExt cx="6248160" cy="413064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1447920" y="2438280"/>
              <a:ext cx="62481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447920" y="6112800"/>
              <a:ext cx="59378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Garamond"/>
                </a:rPr>
                <a:t>Funzione densità di probabilità della durata di una sessione On-Off: distribuzione Gamm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ON-OFF 3/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9810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Risultati delle simulazioni del modello di traf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95880" y="2514600"/>
            <a:ext cx="3048120" cy="2590560"/>
            <a:chOff x="6095880" y="2514600"/>
            <a:chExt cx="3048120" cy="2590560"/>
          </a:xfrm>
        </p:grpSpPr>
        <p:sp>
          <p:nvSpPr>
            <p:cNvPr id="246" name=""/>
            <p:cNvSpPr/>
            <p:nvPr/>
          </p:nvSpPr>
          <p:spPr>
            <a:xfrm>
              <a:off x="6095880" y="4946760"/>
              <a:ext cx="3035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Garamond"/>
                </a:rPr>
                <a:t>Traffico generato da una sorgente On-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6095880" y="2514600"/>
              <a:ext cx="3048120" cy="242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048120" y="3505320"/>
            <a:ext cx="2973240" cy="3047400"/>
            <a:chOff x="3048120" y="3505320"/>
            <a:chExt cx="2973240" cy="3047400"/>
          </a:xfrm>
        </p:grpSpPr>
        <p:sp>
          <p:nvSpPr>
            <p:cNvPr id="249" name=""/>
            <p:cNvSpPr/>
            <p:nvPr/>
          </p:nvSpPr>
          <p:spPr>
            <a:xfrm>
              <a:off x="3048120" y="6408000"/>
              <a:ext cx="29732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Garamond"/>
                </a:rPr>
                <a:t>Particolare dell’andamento del traffico di una sorgente On-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3048120" y="3505320"/>
              <a:ext cx="2973240" cy="28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0" y="2595600"/>
            <a:ext cx="2973240" cy="2585520"/>
            <a:chOff x="0" y="2595600"/>
            <a:chExt cx="2973240" cy="2585520"/>
          </a:xfrm>
        </p:grpSpPr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0" y="2595600"/>
              <a:ext cx="2973240" cy="23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0" y="4946760"/>
              <a:ext cx="255636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Garamond"/>
                </a:rPr>
                <a:t>Nascita di sorgenti On-Off su un</a:t>
              </a:r>
              <a:r>
                <a:rPr b="0" lang="en-US" sz="11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Garamond"/>
                </a:rPr>
                <a:t>intervallo di osservazione di 3000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: Altre sorgent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76520" y="3067200"/>
          <a:ext cx="6019560" cy="2952720"/>
        </p:xfrm>
        <a:graphic>
          <a:graphicData uri="http://schemas.openxmlformats.org/drawingml/2006/table">
            <a:tbl>
              <a:tblPr/>
              <a:tblGrid>
                <a:gridCol w="1371240"/>
                <a:gridCol w="1371600"/>
                <a:gridCol w="1067040"/>
                <a:gridCol w="1066680"/>
                <a:gridCol w="1143000"/>
              </a:tblGrid>
              <a:tr h="823320"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rg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0033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te medio (bit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0033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Dur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0033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(by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003366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800" spc="-1" strike="noStrike" baseline="-30000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(s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-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003366"/>
                        </a:gs>
                      </a:gsLst>
                      <a:lin ang="8100000"/>
                    </a:gradFill>
                  </a:tcPr>
                </a:tc>
              </a:tr>
              <a:tr h="305280"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Voce P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P=64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1" lang="en-GB" sz="1600" spc="-1" strike="noStrike" baseline="30000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GB" sz="1600" spc="-1" strike="noStrike" baseline="30000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Video telef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P=2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0.2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312840"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Video M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.1 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2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Video confere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0 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36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20 * 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318600"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SM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5 *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3366"/>
                          </a:solidFill>
                          <a:latin typeface="Garamond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1143000" y="2438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Parametri dei modelli di traffico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Garamond"/>
              </a:rPr>
              <a:t>PROGETTO PRIN 2000</a:t>
            </a: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Garamond"/>
              </a:rPr>
              <a:t>Sistemi OFDM con applicazione alle reti W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TEMA 1: Elaborazione numerica del segnale al trasmettitore</a:t>
            </a: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TEMA 2: Elaborazione numerica del segnale al ricevitore</a:t>
            </a:r>
            <a:br>
              <a:rPr sz="3000"/>
            </a:br>
            <a:r>
              <a:rPr b="1" i="1" lang="en-US" sz="3000" spc="-1" strike="noStrike" u="sng">
                <a:solidFill>
                  <a:srgbClr val="990000"/>
                </a:solidFill>
                <a:uFillTx/>
                <a:latin typeface="Garamond"/>
              </a:rPr>
              <a:t>TEMA 3: Tecniche di assegnazione delle risorse radio</a:t>
            </a: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TEMA 4: Piattaforma su DSP per il dimostrato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76320"/>
          <a:ext cx="10335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320"/>
                    <a:ext cx="10335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82880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Garamond"/>
              </a:rPr>
              <a:t>Interazione sorgenti di traffico - risorse di rete</a:t>
            </a: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 :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Garamond"/>
              </a:rPr>
              <a:t>Teorie delle code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057400"/>
            <a:ext cx="594360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Caratterizzazione sistema a co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Processo di ingresso :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distribuzione tempi di interarrivo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Processo di servizio: </a:t>
            </a: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distribuzione tempi di servizio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Disciplina di coda : es. FIFO, LIFO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867280" y="2743200"/>
            <a:ext cx="3048120" cy="825480"/>
            <a:chOff x="5867280" y="2743200"/>
            <a:chExt cx="3048120" cy="825480"/>
          </a:xfrm>
        </p:grpSpPr>
        <p:sp>
          <p:nvSpPr>
            <p:cNvPr id="266" name=""/>
            <p:cNvSpPr/>
            <p:nvPr/>
          </p:nvSpPr>
          <p:spPr>
            <a:xfrm>
              <a:off x="6553080" y="2743200"/>
              <a:ext cx="2362320" cy="825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Garamond"/>
                </a:rPr>
                <a:t>Processo di co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7280" y="2743200"/>
              <a:ext cx="533520" cy="457200"/>
            </a:xfrm>
            <a:custGeom>
              <a:avLst/>
              <a:gdLst>
                <a:gd name="textAreaLeft" fmla="*/ 83160 w 533520"/>
                <a:gd name="textAreaRight" fmla="*/ 42264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2600" y="5400"/>
                  </a:lnTo>
                  <a:lnTo>
                    <a:pt x="12600" y="0"/>
                  </a:lnTo>
                  <a:lnTo>
                    <a:pt x="21600" y="10800"/>
                  </a:lnTo>
                  <a:lnTo>
                    <a:pt x="12600" y="21600"/>
                  </a:lnTo>
                  <a:lnTo>
                    <a:pt x="126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514600" y="4267080"/>
            <a:ext cx="4419360" cy="2209680"/>
            <a:chOff x="2514600" y="4267080"/>
            <a:chExt cx="4419360" cy="2209680"/>
          </a:xfrm>
        </p:grpSpPr>
        <p:grpSp>
          <p:nvGrpSpPr>
            <p:cNvPr id="269" name=""/>
            <p:cNvGrpSpPr/>
            <p:nvPr/>
          </p:nvGrpSpPr>
          <p:grpSpPr>
            <a:xfrm>
              <a:off x="2514600" y="5333760"/>
              <a:ext cx="4419360" cy="1143000"/>
              <a:chOff x="2514600" y="5333760"/>
              <a:chExt cx="4419360" cy="1143000"/>
            </a:xfrm>
          </p:grpSpPr>
          <p:sp>
            <p:nvSpPr>
              <p:cNvPr id="270" name=""/>
              <p:cNvSpPr/>
              <p:nvPr/>
            </p:nvSpPr>
            <p:spPr>
              <a:xfrm>
                <a:off x="2514600" y="5333760"/>
                <a:ext cx="4419360" cy="11430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666880" y="5333760"/>
                <a:ext cx="4114800" cy="914400"/>
                <a:chOff x="2666880" y="5333760"/>
                <a:chExt cx="4114800" cy="91440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2819160" y="5714640"/>
                  <a:ext cx="3962160" cy="533520"/>
                  <a:chOff x="2819160" y="5714640"/>
                  <a:chExt cx="3962160" cy="53352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029200" y="5752800"/>
                    <a:ext cx="1752120" cy="457200"/>
                    <a:chOff x="5029200" y="5752800"/>
                    <a:chExt cx="1752120" cy="4572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562360" y="5752800"/>
                      <a:ext cx="456840" cy="457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990000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019560" y="598140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lg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029200" y="5981400"/>
                      <a:ext cx="53316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lg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2819160" y="5714640"/>
                    <a:ext cx="2210040" cy="533520"/>
                    <a:chOff x="2819160" y="5714640"/>
                    <a:chExt cx="2210040" cy="533520"/>
                  </a:xfrm>
                </p:grpSpPr>
                <p:grpSp>
                  <p:nvGrpSpPr>
                    <p:cNvPr id="278" name=""/>
                    <p:cNvGrpSpPr/>
                    <p:nvPr/>
                  </p:nvGrpSpPr>
                  <p:grpSpPr>
                    <a:xfrm>
                      <a:off x="3770280" y="5714640"/>
                      <a:ext cx="1258920" cy="533520"/>
                      <a:chOff x="3770280" y="5714640"/>
                      <a:chExt cx="1258920" cy="533520"/>
                    </a:xfrm>
                  </p:grpSpPr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3770280" y="5714640"/>
                        <a:ext cx="1258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5016240" y="5719320"/>
                        <a:ext cx="0" cy="52884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4876560" y="5714640"/>
                        <a:ext cx="0" cy="52848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4724280" y="5714640"/>
                        <a:ext cx="0" cy="52848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3770280" y="6248160"/>
                        <a:ext cx="1258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4038480" y="5714640"/>
                        <a:ext cx="0" cy="52848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886200" y="5714640"/>
                        <a:ext cx="0" cy="52848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4572000" y="5714640"/>
                        <a:ext cx="0" cy="528480"/>
                      </a:xfrm>
                      <a:prstGeom prst="line">
                        <a:avLst/>
                      </a:prstGeom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4114800" y="5943240"/>
                        <a:ext cx="75960" cy="76320"/>
                      </a:xfrm>
                      <a:prstGeom prst="ellipse">
                        <a:avLst/>
                      </a:prstGeom>
                      <a:solidFill>
                        <a:srgbClr val="0033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4267080" y="5943240"/>
                        <a:ext cx="76320" cy="76320"/>
                      </a:xfrm>
                      <a:prstGeom prst="ellipse">
                        <a:avLst/>
                      </a:prstGeom>
                      <a:solidFill>
                        <a:srgbClr val="0033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4419360" y="5943240"/>
                        <a:ext cx="76320" cy="76320"/>
                      </a:xfrm>
                      <a:prstGeom prst="ellipse">
                        <a:avLst/>
                      </a:prstGeom>
                      <a:solidFill>
                        <a:srgbClr val="0033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2819160" y="5981400"/>
                      <a:ext cx="76212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lg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1" name=""/>
                <p:cNvSpPr/>
                <p:nvPr/>
              </p:nvSpPr>
              <p:spPr>
                <a:xfrm>
                  <a:off x="2666880" y="5333760"/>
                  <a:ext cx="411480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0320" bIns="40320" anchor="t">
                  <a:noAutofit/>
                </a:bodyPr>
                <a:p>
                  <a:pPr marL="457200" indent="-392040" algn="just">
                    <a:lnSpc>
                      <a:spcPct val="100000"/>
                    </a:lnSpc>
                    <a:spcAft>
                      <a:spcPts val="1287"/>
                    </a:spcAft>
                    <a:tabLst>
                      <a:tab algn="l" pos="0"/>
                      <a:tab algn="l" pos="816120"/>
                      <a:tab algn="l" pos="1224000"/>
                      <a:tab algn="l" pos="1631880"/>
                      <a:tab algn="l" pos="2039760"/>
                      <a:tab algn="l" pos="2448000"/>
                      <a:tab algn="l" pos="2855880"/>
                      <a:tab algn="l" pos="3263760"/>
                      <a:tab algn="l" pos="3672000"/>
                      <a:tab algn="l" pos="4079880"/>
                      <a:tab algn="l" pos="4487760"/>
                      <a:tab algn="l" pos="4896000"/>
                      <a:tab algn="l" pos="5303880"/>
                      <a:tab algn="l" pos="5711760"/>
                      <a:tab algn="l" pos="6119640"/>
                      <a:tab algn="l" pos="6527880"/>
                      <a:tab algn="l" pos="6935760"/>
                      <a:tab algn="l" pos="7343640"/>
                      <a:tab algn="l" pos="7751880"/>
                      <a:tab algn="l" pos="8159760"/>
                      <a:tab algn="l" pos="8567640"/>
                    </a:tabLst>
                  </a:pPr>
                  <a:r>
                    <a:rPr b="1" lang="en-US" sz="1400" spc="-1" strike="noStrike">
                      <a:solidFill>
                        <a:srgbClr val="003366"/>
                      </a:solidFill>
                      <a:latin typeface="Garamond"/>
                    </a:rPr>
                    <a:t>Customers            Queue                    Ser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>
              <a:off x="2819520" y="4267080"/>
              <a:ext cx="3809880" cy="398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66"/>
                  </a:solidFill>
                  <a:latin typeface="Garamond"/>
                </a:rPr>
                <a:t>SISTEMA AD UN SERV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4515120" y="4781520"/>
              <a:ext cx="419040" cy="457200"/>
            </a:xfrm>
            <a:custGeom>
              <a:avLst/>
              <a:gdLst>
                <a:gd name="textAreaLeft" fmla="*/ 65520 w 419040"/>
                <a:gd name="textAreaRight" fmla="*/ 318960 w 419040"/>
                <a:gd name="textAreaTop" fmla="*/ 85680 h 457200"/>
                <a:gd name="textAreaBottom" fmla="*/ 371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50"/>
                  </a:moveTo>
                  <a:lnTo>
                    <a:pt x="13336" y="4050"/>
                  </a:lnTo>
                  <a:lnTo>
                    <a:pt x="13336" y="0"/>
                  </a:lnTo>
                  <a:lnTo>
                    <a:pt x="21600" y="10800"/>
                  </a:lnTo>
                  <a:lnTo>
                    <a:pt x="13336" y="21600"/>
                  </a:lnTo>
                  <a:lnTo>
                    <a:pt x="13336" y="17550"/>
                  </a:lnTo>
                  <a:lnTo>
                    <a:pt x="3375" y="17550"/>
                  </a:lnTo>
                  <a:close/>
                </a:path>
                <a:path w="21600" h="21600">
                  <a:moveTo>
                    <a:pt x="0" y="4050"/>
                  </a:moveTo>
                  <a:lnTo>
                    <a:pt x="675" y="4050"/>
                  </a:lnTo>
                  <a:lnTo>
                    <a:pt x="675" y="17550"/>
                  </a:lnTo>
                  <a:lnTo>
                    <a:pt x="0" y="17550"/>
                  </a:lnTo>
                  <a:close/>
                </a:path>
                <a:path w="21600" h="21600">
                  <a:moveTo>
                    <a:pt x="1350" y="4050"/>
                  </a:moveTo>
                  <a:lnTo>
                    <a:pt x="2700" y="4050"/>
                  </a:lnTo>
                  <a:lnTo>
                    <a:pt x="2700" y="17550"/>
                  </a:lnTo>
                  <a:lnTo>
                    <a:pt x="1350" y="1755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Garamond"/>
              </a:rPr>
              <a:t>Interazione sorgenti di traffico - risorse di rete</a:t>
            </a: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 :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Garamond"/>
              </a:rPr>
              <a:t>Teorie delle code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82880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Analisi dei sistemi a coda :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Garamond"/>
              </a:rPr>
              <a:t>Regime permanente</a:t>
            </a: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Caratterizzazione processo di coda :</a:t>
            </a: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definizione variabili aleatorie caratterizzanti i componenti del siste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Notazione processi di coda : </a:t>
            </a: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es. M/G/m/L/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814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76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63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1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52280" y="3733920"/>
            <a:ext cx="8839440" cy="3034800"/>
            <a:chOff x="152280" y="3733920"/>
            <a:chExt cx="8839440" cy="3034800"/>
          </a:xfrm>
        </p:grpSpPr>
        <p:sp>
          <p:nvSpPr>
            <p:cNvPr id="304" name=""/>
            <p:cNvSpPr/>
            <p:nvPr/>
          </p:nvSpPr>
          <p:spPr>
            <a:xfrm>
              <a:off x="152280" y="3733920"/>
              <a:ext cx="8839440" cy="297180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e5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04920" y="3733920"/>
              <a:ext cx="8534160" cy="3034800"/>
              <a:chOff x="304920" y="3733920"/>
              <a:chExt cx="8534160" cy="3034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219320" y="3733920"/>
                <a:ext cx="64767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2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ffffff"/>
                    </a:solidFill>
                    <a:uFillTx/>
                    <a:latin typeface="Garamond"/>
                  </a:rPr>
                  <a:t>Dimensionamento : code ad attesa con perdita M/M/1/L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7" name=""/>
                  <p:cNvSpPr txBox="1"/>
                  <p:nvPr/>
                </p:nvSpPr>
                <p:spPr>
                  <a:xfrm>
                    <a:off x="3962520" y="4800600"/>
                    <a:ext cx="1143000" cy="76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8" name=""/>
                  <p:cNvSpPr txBox="1"/>
                  <p:nvPr/>
                </p:nvSpPr>
                <p:spPr>
                  <a:xfrm>
                    <a:off x="6400800" y="4802040"/>
                    <a:ext cx="181116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304920" y="4822920"/>
                    <a:ext cx="274320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*ρ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"/>
              <p:cNvSpPr/>
              <p:nvPr/>
            </p:nvSpPr>
            <p:spPr>
              <a:xfrm>
                <a:off x="380880" y="4267080"/>
                <a:ext cx="2590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2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Garamond"/>
                  </a:rPr>
                  <a:t>Probabilità di perdi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29000" y="4267080"/>
                <a:ext cx="2590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2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Garamond"/>
                  </a:rPr>
                  <a:t>N° di utenti in co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00800" y="4267080"/>
                <a:ext cx="19810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28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Garamond"/>
                  </a:rPr>
                  <a:t>Ritardo di co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34120" y="5791320"/>
                <a:ext cx="350496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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Garamond"/>
                  </a:rPr>
                  <a:t>: rendimento di utilizzazione del serv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Garamond"/>
                  </a:rPr>
                  <a:t>S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Garamond"/>
                  </a:rPr>
                  <a:t>: frequenza di interarriv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Garamond"/>
                  </a:rPr>
                  <a:t>1/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Garamond"/>
                  </a:rPr>
                  <a:t>: tempo di serviz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Simulazione : Risultati e Confront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80880" y="2595600"/>
          <a:ext cx="2514600" cy="14778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609480"/>
              </a:tblGrid>
              <a:tr h="37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Rate(B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L</a:t>
                      </a:r>
                      <a:r>
                        <a:rPr b="1" lang="en-US" sz="1200" spc="-1" strike="noStrike" baseline="-30000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</a:t>
                      </a:r>
                      <a:r>
                        <a:rPr b="1" lang="en-US" sz="1200" spc="-1" strike="noStrike" baseline="-30000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p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=10</a:t>
                      </a:r>
                      <a:r>
                        <a:rPr b="1" lang="en-US" sz="1200" spc="-1" strike="noStrike" baseline="30000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-3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</a:t>
                      </a:r>
                      <a:r>
                        <a:rPr b="1" lang="it-IT" sz="1200" spc="-1" strike="noStrike" baseline="-30000">
                          <a:solidFill>
                            <a:srgbClr val="990000"/>
                          </a:solidFill>
                          <a:latin typeface="Garamond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2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0.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1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0.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4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54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0.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34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0.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e0e0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038480" y="2514600"/>
          <a:ext cx="4648320" cy="1600200"/>
        </p:xfrm>
        <a:graphic>
          <a:graphicData uri="http://schemas.openxmlformats.org/drawingml/2006/table">
            <a:tbl>
              <a:tblPr/>
              <a:tblGrid>
                <a:gridCol w="668520"/>
                <a:gridCol w="608040"/>
                <a:gridCol w="850680"/>
                <a:gridCol w="615960"/>
                <a:gridCol w="609840"/>
                <a:gridCol w="685800"/>
                <a:gridCol w="609480"/>
              </a:tblGrid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Rate (B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Bmax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Bmean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Dmax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Dmean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54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32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3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09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01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4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3.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3.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609480" y="2367000"/>
            <a:ext cx="2133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Probabilità di perdi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290680"/>
            <a:ext cx="4419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Occupazione media del buffer e Ritardi di c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819520" y="4948200"/>
          <a:ext cx="5867280" cy="16606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761760"/>
                <a:gridCol w="838440"/>
                <a:gridCol w="838080"/>
                <a:gridCol w="83808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B/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B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Bme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Dma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Dme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990000"/>
                          </a:solidFill>
                          <a:latin typeface="Garamond"/>
                          <a:ea typeface="Arial Unicode MS"/>
                        </a:rPr>
                        <a:t>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ccccff"/>
                        </a:gs>
                      </a:gsLst>
                      <a:lin ang="8100000"/>
                    </a:gra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4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04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96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3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66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3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4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70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Garamond"/>
                          <a:ea typeface="Arial Unicode MS"/>
                        </a:rPr>
                        <a:t>0.0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d3d3fe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380880" y="5562720"/>
            <a:ext cx="23623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Garamond"/>
              </a:rPr>
              <a:t>Occupazione media del buffer e Ritardi di c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1901880"/>
            <a:ext cx="198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aramond"/>
              </a:rPr>
              <a:t>Sorgenti FTP</a:t>
            </a:r>
            <a:r>
              <a:rPr b="1" i="1" lang="en-US" sz="1600" spc="-1" strike="noStrike">
                <a:solidFill>
                  <a:srgbClr val="003366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434016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aramond"/>
              </a:rPr>
              <a:t>Sorgenti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2209680"/>
            <a:ext cx="8763120" cy="198144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648320"/>
            <a:ext cx="8763120" cy="205740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Risultati e Conclusio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905120"/>
            <a:ext cx="7315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aramond"/>
              </a:rPr>
              <a:t>Teoria delle code e simulazioni danno risultati dive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9480" y="2362320"/>
            <a:ext cx="7848720" cy="1684440"/>
            <a:chOff x="609480" y="2362320"/>
            <a:chExt cx="7848720" cy="1684440"/>
          </a:xfrm>
        </p:grpSpPr>
        <p:grpSp>
          <p:nvGrpSpPr>
            <p:cNvPr id="334" name=""/>
            <p:cNvGrpSpPr/>
            <p:nvPr/>
          </p:nvGrpSpPr>
          <p:grpSpPr>
            <a:xfrm>
              <a:off x="609480" y="2362320"/>
              <a:ext cx="3732480" cy="1522080"/>
              <a:chOff x="609480" y="2362320"/>
              <a:chExt cx="3732480" cy="1522080"/>
            </a:xfrm>
          </p:grpSpPr>
          <p:sp>
            <p:nvSpPr>
              <p:cNvPr id="335" name=""/>
              <p:cNvSpPr/>
              <p:nvPr/>
            </p:nvSpPr>
            <p:spPr>
              <a:xfrm>
                <a:off x="609480" y="2362320"/>
                <a:ext cx="3732480" cy="15220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009e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17800" y="243828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Garamond"/>
                  </a:rPr>
                  <a:t>Teo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90720" y="2819160"/>
                <a:ext cx="2743200" cy="9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 </a:t>
                </a: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Regime permanente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250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 </a:t>
                </a: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Code M/M/1/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4724280" y="2362320"/>
              <a:ext cx="3733920" cy="1684440"/>
              <a:chOff x="4724280" y="2362320"/>
              <a:chExt cx="3733920" cy="1684440"/>
            </a:xfrm>
          </p:grpSpPr>
          <p:sp>
            <p:nvSpPr>
              <p:cNvPr id="339" name=""/>
              <p:cNvSpPr/>
              <p:nvPr/>
            </p:nvSpPr>
            <p:spPr>
              <a:xfrm>
                <a:off x="4724280" y="2362320"/>
                <a:ext cx="3733920" cy="15238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009e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05440" y="243828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Garamond"/>
                  </a:rPr>
                  <a:t>Simulazio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52880" y="2819160"/>
                <a:ext cx="3505320" cy="12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buClr>
                    <a:srgbClr val="001f3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 </a:t>
                </a: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Sorgenti di durata limitata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250"/>
                  </a:spcBef>
                  <a:buClr>
                    <a:srgbClr val="001f3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 </a:t>
                </a:r>
                <a:r>
                  <a:rPr b="1" lang="en-US" sz="2000" spc="-1" strike="noStrike">
                    <a:solidFill>
                      <a:srgbClr val="800000"/>
                    </a:solidFill>
                    <a:latin typeface="Garamond"/>
                  </a:rPr>
                  <a:t>Sorgenti non Poissonian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1523880" y="4114800"/>
            <a:ext cx="5867640" cy="825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Garamond"/>
              </a:rPr>
              <a:t>Allocazione delle risorse a livello di sessione</a:t>
            </a:r>
            <a:r>
              <a:rPr b="1" lang="en-US" sz="2400" spc="-1" strike="noStrike">
                <a:solidFill>
                  <a:srgbClr val="8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5181480"/>
            <a:ext cx="6705720" cy="938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0000"/>
                </a:solidFill>
                <a:latin typeface="Garamond"/>
              </a:rPr>
              <a:t>Teoria delle code non garantisce un adegua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0000"/>
                </a:solidFill>
                <a:latin typeface="Garamond"/>
              </a:rPr>
              <a:t>dimensionamento delle riso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4648320"/>
            <a:ext cx="533160" cy="533160"/>
          </a:xfrm>
          <a:prstGeom prst="downArrow">
            <a:avLst>
              <a:gd name="adj1" fmla="val 42481"/>
              <a:gd name="adj2" fmla="val 47153"/>
            </a:avLst>
          </a:prstGeom>
          <a:gradFill rotWithShape="0">
            <a:gsLst>
              <a:gs pos="0">
                <a:srgbClr val="ccccff"/>
              </a:gs>
              <a:gs pos="50000">
                <a:srgbClr val="009e78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248520"/>
            <a:ext cx="7848720" cy="429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20000"/>
                </a:solidFill>
                <a:latin typeface="Garamond"/>
              </a:rPr>
              <a:t>Approccio futuro di tipo simul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Garamond"/>
              </a:rPr>
              <a:t>Struttura della present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9480" y="2590920"/>
            <a:ext cx="784872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Principali caratteristiche delle W-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Interfacciamento strato MAC-strato di RE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Definizione Scenario: Sorgenti di Traff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Modelli di Traffico: HTTP, ON-OFF, FT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Simulazioni : Confronti e Risult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Garamond"/>
              </a:rPr>
              <a:t>Conclusio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425520"/>
            <a:ext cx="784836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W-LANs (1/2): </a:t>
            </a:r>
            <a:br>
              <a:rPr sz="3400"/>
            </a:b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Principali caratteristich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905120"/>
            <a:ext cx="853452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1312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Albertus Medium"/>
              </a:rPr>
              <a:t> </a:t>
            </a:r>
            <a:r>
              <a:rPr b="1" lang="en-US" sz="2100" spc="-1" strike="noStrike">
                <a:solidFill>
                  <a:srgbClr val="003366"/>
                </a:solidFill>
                <a:latin typeface="Garamond"/>
              </a:rPr>
              <a:t>Una W-LAN (Wireless Local Area Network) è una rete in area locale che utilizza il canale radio per trasmettere dati attraverso i nodi che la compongon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312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2100" spc="-1" strike="noStrike">
                <a:solidFill>
                  <a:srgbClr val="003366"/>
                </a:solidFill>
                <a:latin typeface="Garamond"/>
              </a:rPr>
              <a:t>E’ utilizzabile come estensione o alternativa ad una Wired LAN in ambiente “In-Building” o “In-Campus”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3886200"/>
            <a:ext cx="8000640" cy="2666880"/>
            <a:chOff x="609480" y="3886200"/>
            <a:chExt cx="8000640" cy="2666880"/>
          </a:xfrm>
        </p:grpSpPr>
        <p:grpSp>
          <p:nvGrpSpPr>
            <p:cNvPr id="63" name=""/>
            <p:cNvGrpSpPr/>
            <p:nvPr/>
          </p:nvGrpSpPr>
          <p:grpSpPr>
            <a:xfrm>
              <a:off x="609480" y="4494240"/>
              <a:ext cx="3047760" cy="2058840"/>
              <a:chOff x="609480" y="4494240"/>
              <a:chExt cx="3047760" cy="2058840"/>
            </a:xfrm>
          </p:grpSpPr>
          <p:sp>
            <p:nvSpPr>
              <p:cNvPr id="64" name=""/>
              <p:cNvSpPr/>
              <p:nvPr/>
            </p:nvSpPr>
            <p:spPr>
              <a:xfrm>
                <a:off x="609480" y="4494240"/>
                <a:ext cx="3047760" cy="2058840"/>
              </a:xfrm>
              <a:prstGeom prst="roundRect">
                <a:avLst>
                  <a:gd name="adj" fmla="val 34764"/>
                </a:avLst>
              </a:prstGeom>
              <a:gradFill rotWithShape="0">
                <a:gsLst>
                  <a:gs pos="0">
                    <a:srgbClr val="800000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5" name=""/>
              <p:cNvGraphicFramePr/>
              <p:nvPr/>
            </p:nvGraphicFramePr>
            <p:xfrm>
              <a:off x="761760" y="4788360"/>
              <a:ext cx="1981080" cy="14504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61760" y="4788360"/>
                        <a:ext cx="1981080" cy="145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" name=""/>
              <p:cNvSpPr/>
              <p:nvPr/>
            </p:nvSpPr>
            <p:spPr>
              <a:xfrm>
                <a:off x="2133360" y="466236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Garamond"/>
                  </a:rPr>
                  <a:t>“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Garamond"/>
                  </a:rPr>
                  <a:t>Ad Hoc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028840" y="4495680"/>
              <a:ext cx="3581280" cy="2057400"/>
              <a:chOff x="5028840" y="4495680"/>
              <a:chExt cx="3581280" cy="2057400"/>
            </a:xfrm>
          </p:grpSpPr>
          <p:sp>
            <p:nvSpPr>
              <p:cNvPr id="69" name=""/>
              <p:cNvSpPr/>
              <p:nvPr/>
            </p:nvSpPr>
            <p:spPr>
              <a:xfrm>
                <a:off x="5105160" y="4495680"/>
                <a:ext cx="3504960" cy="2057400"/>
              </a:xfrm>
              <a:prstGeom prst="roundRect">
                <a:avLst>
                  <a:gd name="adj" fmla="val 34764"/>
                </a:avLst>
              </a:prstGeom>
              <a:gradFill rotWithShape="0">
                <a:gsLst>
                  <a:gs pos="0">
                    <a:srgbClr val="800000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0" name=""/>
              <p:cNvGraphicFramePr/>
              <p:nvPr/>
            </p:nvGraphicFramePr>
            <p:xfrm>
              <a:off x="5028840" y="5029200"/>
              <a:ext cx="3011400" cy="12794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5028840" y="5029200"/>
                        <a:ext cx="3011400" cy="12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2" name=""/>
              <p:cNvSpPr/>
              <p:nvPr/>
            </p:nvSpPr>
            <p:spPr>
              <a:xfrm>
                <a:off x="6248160" y="4610160"/>
                <a:ext cx="228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Garamond"/>
                  </a:rPr>
                  <a:t>“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Garamond"/>
                  </a:rPr>
                  <a:t>Ad Infrastruttura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2438280" y="3886200"/>
              <a:ext cx="4114800" cy="914400"/>
              <a:chOff x="2438280" y="3886200"/>
              <a:chExt cx="411480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2438280" y="3886200"/>
                <a:ext cx="4114800" cy="380880"/>
              </a:xfrm>
              <a:prstGeom prst="rect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7590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ffffff"/>
                    </a:solidFill>
                    <a:latin typeface="Garamond"/>
                  </a:rPr>
                  <a:t>Possibili configurazioni di rete: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3581280" y="4343400"/>
                <a:ext cx="457200" cy="4572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724280" y="4343400"/>
                <a:ext cx="457200" cy="4572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24080" y="2438280"/>
            <a:ext cx="4572000" cy="19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181480"/>
            <a:ext cx="8077320" cy="1371600"/>
          </a:xfrm>
          <a:prstGeom prst="roundRect">
            <a:avLst>
              <a:gd name="adj" fmla="val 21875"/>
            </a:avLst>
          </a:prstGeom>
          <a:gradFill rotWithShape="0">
            <a:gsLst>
              <a:gs pos="0">
                <a:srgbClr val="808080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124080" y="2514600"/>
            <a:ext cx="4724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obilità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elocità e semplicità di installaz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lessibilità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calabilità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inime spese ciclo vit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W-LANs (2/2): </a:t>
            </a:r>
            <a:br>
              <a:rPr sz="3400"/>
            </a:b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Vantaggi e svantagg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2578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Gestione canale indoor (selettività in tempo e frequenz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Esistenza di diversi standard (ETSI HiperLAN II, IEEE 802.11, etc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90720" y="3047760"/>
            <a:ext cx="1981080" cy="533160"/>
            <a:chOff x="990720" y="3047760"/>
            <a:chExt cx="1981080" cy="533160"/>
          </a:xfrm>
        </p:grpSpPr>
        <p:sp>
          <p:nvSpPr>
            <p:cNvPr id="86" name=""/>
            <p:cNvSpPr/>
            <p:nvPr/>
          </p:nvSpPr>
          <p:spPr>
            <a:xfrm rot="16200000">
              <a:off x="1752480" y="2361600"/>
              <a:ext cx="533160" cy="1905120"/>
            </a:xfrm>
            <a:prstGeom prst="downArrowCallout">
              <a:avLst>
                <a:gd name="adj1" fmla="val 36809"/>
                <a:gd name="adj2" fmla="val 38542"/>
                <a:gd name="adj3" fmla="val 135668"/>
                <a:gd name="adj4" fmla="val 54667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90720" y="3124080"/>
              <a:ext cx="121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Vantagg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Interfaccia MAC-RE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53920" y="4076640"/>
            <a:ext cx="1793880" cy="963720"/>
            <a:chOff x="853920" y="4076640"/>
            <a:chExt cx="1793880" cy="963720"/>
          </a:xfrm>
        </p:grpSpPr>
        <p:sp>
          <p:nvSpPr>
            <p:cNvPr id="90" name=""/>
            <p:cNvSpPr/>
            <p:nvPr/>
          </p:nvSpPr>
          <p:spPr>
            <a:xfrm>
              <a:off x="853920" y="4076640"/>
              <a:ext cx="1793880" cy="9637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32000" y="4454640"/>
              <a:ext cx="838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37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Garamond"/>
                </a:rPr>
                <a:t>MA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4720" y="2666880"/>
            <a:ext cx="2543040" cy="723600"/>
            <a:chOff x="504720" y="2666880"/>
            <a:chExt cx="2543040" cy="723600"/>
          </a:xfrm>
        </p:grpSpPr>
        <p:sp>
          <p:nvSpPr>
            <p:cNvPr id="93" name=""/>
            <p:cNvSpPr/>
            <p:nvPr/>
          </p:nvSpPr>
          <p:spPr>
            <a:xfrm>
              <a:off x="504720" y="2666880"/>
              <a:ext cx="2543040" cy="723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9520" y="2721960"/>
              <a:ext cx="1981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063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700" spc="-1" strike="noStrike">
                  <a:solidFill>
                    <a:srgbClr val="003366"/>
                  </a:solidFill>
                  <a:latin typeface="Garamond"/>
                </a:rPr>
                <a:t>STRATO DI RE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76280" y="3224160"/>
            <a:ext cx="831960" cy="149400"/>
            <a:chOff x="1376280" y="3224160"/>
            <a:chExt cx="831960" cy="149400"/>
          </a:xfrm>
        </p:grpSpPr>
        <p:sp>
          <p:nvSpPr>
            <p:cNvPr id="96" name=""/>
            <p:cNvSpPr/>
            <p:nvPr/>
          </p:nvSpPr>
          <p:spPr>
            <a:xfrm>
              <a:off x="1830240" y="3224160"/>
              <a:ext cx="149400" cy="14940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6280" y="3224160"/>
              <a:ext cx="149400" cy="149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3440" y="3224160"/>
              <a:ext cx="150840" cy="14940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8840" y="3224160"/>
              <a:ext cx="149400" cy="1494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0" y="3390840"/>
            <a:ext cx="2135160" cy="696960"/>
            <a:chOff x="0" y="3390840"/>
            <a:chExt cx="2135160" cy="696960"/>
          </a:xfrm>
        </p:grpSpPr>
        <p:grpSp>
          <p:nvGrpSpPr>
            <p:cNvPr id="101" name=""/>
            <p:cNvGrpSpPr/>
            <p:nvPr/>
          </p:nvGrpSpPr>
          <p:grpSpPr>
            <a:xfrm>
              <a:off x="1449360" y="3390840"/>
              <a:ext cx="685800" cy="696960"/>
              <a:chOff x="1449360" y="3390840"/>
              <a:chExt cx="685800" cy="696960"/>
            </a:xfrm>
          </p:grpSpPr>
          <p:sp>
            <p:nvSpPr>
              <p:cNvPr id="102" name=""/>
              <p:cNvSpPr/>
              <p:nvPr/>
            </p:nvSpPr>
            <p:spPr>
              <a:xfrm>
                <a:off x="1449360" y="3390840"/>
                <a:ext cx="0" cy="6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77960" y="3390840"/>
                <a:ext cx="0" cy="6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06560" y="3390840"/>
                <a:ext cx="0" cy="6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5160" y="3390840"/>
                <a:ext cx="0" cy="69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0" y="3581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Garamond"/>
                </a:rPr>
                <a:t>PACCHET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Garamond"/>
                </a:rPr>
                <a:t> </a:t>
              </a:r>
              <a:r>
                <a:rPr b="1" lang="en-US" sz="1200" spc="-1" strike="noStrike">
                  <a:solidFill>
                    <a:srgbClr val="990000"/>
                  </a:solidFill>
                  <a:latin typeface="Garamond"/>
                </a:rPr>
                <a:t>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04720" y="5667480"/>
            <a:ext cx="2543400" cy="696960"/>
            <a:chOff x="504720" y="5667480"/>
            <a:chExt cx="2543400" cy="696960"/>
          </a:xfrm>
        </p:grpSpPr>
        <p:sp>
          <p:nvSpPr>
            <p:cNvPr id="108" name=""/>
            <p:cNvSpPr/>
            <p:nvPr/>
          </p:nvSpPr>
          <p:spPr>
            <a:xfrm>
              <a:off x="504720" y="5667480"/>
              <a:ext cx="2543400" cy="6969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7720" y="5915160"/>
              <a:ext cx="20574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TRATO FI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3560" y="5033880"/>
            <a:ext cx="1166760" cy="647640"/>
            <a:chOff x="763560" y="5033880"/>
            <a:chExt cx="1166760" cy="647640"/>
          </a:xfrm>
        </p:grpSpPr>
        <p:sp>
          <p:nvSpPr>
            <p:cNvPr id="111" name=""/>
            <p:cNvSpPr/>
            <p:nvPr/>
          </p:nvSpPr>
          <p:spPr>
            <a:xfrm>
              <a:off x="1650960" y="5033880"/>
              <a:ext cx="199800" cy="647640"/>
            </a:xfrm>
            <a:prstGeom prst="downArrow">
              <a:avLst>
                <a:gd name="adj1" fmla="val 50000"/>
                <a:gd name="adj2" fmla="val 81036"/>
              </a:avLst>
            </a:prstGeom>
            <a:solidFill>
              <a:srgbClr val="ff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3560" y="5257800"/>
              <a:ext cx="11667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Garamond"/>
                </a:rPr>
                <a:t>MAC-P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4440" y="3048120"/>
            <a:ext cx="1295640" cy="1218960"/>
          </a:xfrm>
          <a:prstGeom prst="ellipse">
            <a:avLst/>
          </a:prstGeom>
          <a:noFill/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1905120"/>
            <a:ext cx="5562360" cy="4724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just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biettivo dell’unità di Roma : la definizione dello stra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’architettura protocollare : strato IP direttamente al di sopra dello strato MA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Trasferimento di flussi di dati con diverse caratteristiche di traffico e requisiti di Qualità del Servizio (Qo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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oblema : determinare le risorse di rete necessarie per conseguire tali obiettiv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 tale scopo occorrono modelli matematici p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ratterizzare le richieste di servizio ossia modellizzazione del traffico di re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escrivere l’interazione tra attività e risorse: teoria delle cod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buClr>
                <a:srgbClr val="990000"/>
              </a:buClr>
              <a:buSzPct val="75000"/>
              <a:buFont typeface="Wingdings" charset="2"/>
              <a:buChar char=""/>
              <a:tabLst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ndividuare dei metodi per garantire la Q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92040" algn="just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Garamond"/>
              </a:rPr>
              <a:t>Contributo personale: interfacciamento tra strato MAC e strato di  R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3352680"/>
            <a:ext cx="990720" cy="685800"/>
          </a:xfrm>
          <a:custGeom>
            <a:avLst/>
            <a:gdLst>
              <a:gd name="textAreaLeft" fmla="*/ 154800 w 990720"/>
              <a:gd name="textAreaRight" fmla="*/ 797400 w 990720"/>
              <a:gd name="textAreaTop" fmla="*/ 163440 h 685800"/>
              <a:gd name="textAreaBottom" fmla="*/ 52236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150"/>
                </a:moveTo>
                <a:lnTo>
                  <a:pt x="13538" y="5150"/>
                </a:lnTo>
                <a:lnTo>
                  <a:pt x="13538" y="0"/>
                </a:lnTo>
                <a:lnTo>
                  <a:pt x="21600" y="10800"/>
                </a:lnTo>
                <a:lnTo>
                  <a:pt x="13538" y="21600"/>
                </a:lnTo>
                <a:lnTo>
                  <a:pt x="13538" y="16450"/>
                </a:lnTo>
                <a:lnTo>
                  <a:pt x="3375" y="16450"/>
                </a:lnTo>
                <a:close/>
              </a:path>
              <a:path w="21600" h="21600">
                <a:moveTo>
                  <a:pt x="0" y="5150"/>
                </a:moveTo>
                <a:lnTo>
                  <a:pt x="675" y="5150"/>
                </a:lnTo>
                <a:lnTo>
                  <a:pt x="675" y="16450"/>
                </a:lnTo>
                <a:lnTo>
                  <a:pt x="0" y="16450"/>
                </a:lnTo>
                <a:close/>
              </a:path>
              <a:path w="21600" h="21600">
                <a:moveTo>
                  <a:pt x="1350" y="5150"/>
                </a:moveTo>
                <a:lnTo>
                  <a:pt x="2700" y="5150"/>
                </a:lnTo>
                <a:lnTo>
                  <a:pt x="2700" y="16450"/>
                </a:lnTo>
                <a:lnTo>
                  <a:pt x="1350" y="1645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c68e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Scenario di riferim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2286000"/>
            <a:ext cx="7848720" cy="2057400"/>
            <a:chOff x="457200" y="2286000"/>
            <a:chExt cx="784872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457200" y="2286000"/>
              <a:ext cx="7848720" cy="2057400"/>
              <a:chOff x="457200" y="2286000"/>
              <a:chExt cx="7848720" cy="2057400"/>
            </a:xfrm>
          </p:grpSpPr>
          <p:sp>
            <p:nvSpPr>
              <p:cNvPr id="122" name=""/>
              <p:cNvSpPr/>
              <p:nvPr/>
            </p:nvSpPr>
            <p:spPr>
              <a:xfrm>
                <a:off x="457200" y="2286000"/>
                <a:ext cx="7848720" cy="2057400"/>
              </a:xfrm>
              <a:prstGeom prst="roundRect">
                <a:avLst>
                  <a:gd name="adj" fmla="val 26472"/>
                </a:avLst>
              </a:prstGeom>
              <a:gradFill rotWithShape="0">
                <a:gsLst>
                  <a:gs pos="0">
                    <a:srgbClr val="666699"/>
                  </a:gs>
                  <a:gs pos="100000">
                    <a:srgbClr val="caca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38080" y="2438280"/>
                <a:ext cx="69343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0320" bIns="40320" anchor="t">
                <a:noAutofit/>
              </a:bodyPr>
              <a:p>
                <a:pPr marL="522360" indent="-457200">
                  <a:lnSpc>
                    <a:spcPct val="100000"/>
                  </a:lnSpc>
                  <a:spcAft>
                    <a:spcPts val="1287"/>
                  </a:spcAft>
                  <a:tabLst>
                    <a:tab algn="l" pos="0"/>
                    <a:tab algn="l" pos="816120"/>
                    <a:tab algn="l" pos="1224000"/>
                    <a:tab algn="l" pos="163188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</a:tabLst>
                </a:pPr>
                <a:r>
                  <a:rPr b="1" i="1" lang="en-US" sz="2200" spc="-1" strike="noStrike" u="sng">
                    <a:solidFill>
                      <a:srgbClr val="ffffff"/>
                    </a:solidFill>
                    <a:uFillTx/>
                    <a:latin typeface="Garamond"/>
                  </a:rPr>
                  <a:t>Tipi di Sorgenti di Traffico presenti in ambiente WLAN: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523880" y="3048120"/>
              <a:ext cx="5486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0320" bIns="40320" anchor="t">
              <a:noAutofit/>
            </a:bodyPr>
            <a:p>
              <a:pPr marL="190440" indent="-190440" algn="just">
                <a:lnSpc>
                  <a:spcPct val="100000"/>
                </a:lnSpc>
                <a:spcAft>
                  <a:spcPts val="499"/>
                </a:spcAft>
                <a:buClr>
                  <a:srgbClr val="990000"/>
                </a:buClr>
                <a:buSzPct val="75000"/>
                <a:buFont typeface="Wingdings" charset="2"/>
                <a:buChar char="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Garamond"/>
                </a:rPr>
                <a:t>Sorgenti audio </a:t>
              </a:r>
              <a:r>
                <a:rPr b="1" lang="en-US" sz="1600" spc="-1" strike="noStrike">
                  <a:solidFill>
                    <a:srgbClr val="003366"/>
                  </a:solidFill>
                  <a:latin typeface="Garamond"/>
                </a:rPr>
                <a:t>(voce codificata PCM, ADPCM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 algn="just">
                <a:lnSpc>
                  <a:spcPct val="100000"/>
                </a:lnSpc>
                <a:spcAft>
                  <a:spcPts val="499"/>
                </a:spcAft>
                <a:buClr>
                  <a:srgbClr val="990000"/>
                </a:buClr>
                <a:buSzPct val="75000"/>
                <a:buFont typeface="Wingdings" charset="2"/>
                <a:buChar char="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Garamond"/>
                </a:rPr>
                <a:t>Sorgenti video </a:t>
              </a:r>
              <a:r>
                <a:rPr b="1" lang="en-US" sz="1600" spc="-1" strike="noStrike">
                  <a:solidFill>
                    <a:srgbClr val="003366"/>
                  </a:solidFill>
                  <a:latin typeface="Garamond"/>
                </a:rPr>
                <a:t>(videoconferenza, immagini MPEG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 algn="just">
                <a:lnSpc>
                  <a:spcPct val="100000"/>
                </a:lnSpc>
                <a:spcAft>
                  <a:spcPts val="499"/>
                </a:spcAft>
                <a:buClr>
                  <a:srgbClr val="990000"/>
                </a:buClr>
                <a:buSzPct val="75000"/>
                <a:buFont typeface="Wingdings" charset="2"/>
                <a:buChar char="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Garamond"/>
                </a:rPr>
                <a:t>Sorgenti dati</a:t>
              </a:r>
              <a:r>
                <a:rPr b="1" lang="en-US" sz="18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Garamond"/>
                </a:rPr>
                <a:t>(trasferimento file, e-mail, web browsing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320" y="5257800"/>
            <a:ext cx="9067680" cy="914400"/>
            <a:chOff x="76320" y="5257800"/>
            <a:chExt cx="9067680" cy="914400"/>
          </a:xfrm>
        </p:grpSpPr>
        <p:sp>
          <p:nvSpPr>
            <p:cNvPr id="129" name=""/>
            <p:cNvSpPr/>
            <p:nvPr/>
          </p:nvSpPr>
          <p:spPr>
            <a:xfrm>
              <a:off x="76320" y="5334120"/>
              <a:ext cx="2057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0320" bIns="40320" anchor="t">
              <a:noAutofit/>
            </a:bodyPr>
            <a:p>
              <a:pPr marL="190440" indent="-190440" algn="just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17146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i="1" lang="en-US" sz="1800" spc="-1" strike="noStrike">
                  <a:solidFill>
                    <a:srgbClr val="003366"/>
                  </a:solidFill>
                  <a:latin typeface="Garamond"/>
                </a:rPr>
                <a:t>Caratterizzazio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 algn="just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17146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1" i="1" lang="en-US" sz="1800" spc="-1" strike="noStrike">
                  <a:solidFill>
                    <a:srgbClr val="003366"/>
                  </a:solidFill>
                  <a:latin typeface="Garamond"/>
                </a:rPr>
                <a:t>Sorgenti di traffic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5257800"/>
              <a:ext cx="6477120" cy="914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25280" algn="just">
                <a:lnSpc>
                  <a:spcPct val="100000"/>
                </a:lnSpc>
                <a:spcAft>
                  <a:spcPts val="201"/>
                </a:spcAft>
                <a:buClr>
                  <a:srgbClr val="990000"/>
                </a:buClr>
                <a:buSzPct val="75000"/>
                <a:buFont typeface="Wingdings" charset="2"/>
                <a:buChar char="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Sorgenti CBR</a:t>
              </a: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(Constant Bit Rate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25280" algn="just">
                <a:lnSpc>
                  <a:spcPct val="100000"/>
                </a:lnSpc>
                <a:spcAft>
                  <a:spcPts val="201"/>
                </a:spcAft>
                <a:buClr>
                  <a:srgbClr val="990000"/>
                </a:buClr>
                <a:buSzPct val="75000"/>
                <a:buFont typeface="Wingdings" charset="2"/>
                <a:buChar char=""/>
                <a:tabLst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Sorgenti VBR</a:t>
              </a: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(Variable Bit Rate, caso particolare sorgenti On-Off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720" y="5486400"/>
              <a:ext cx="457200" cy="457200"/>
            </a:xfrm>
            <a:custGeom>
              <a:avLst/>
              <a:gdLst>
                <a:gd name="textAreaLeft" fmla="*/ 71280 w 457200"/>
                <a:gd name="textAreaRight" fmla="*/ 282960 w 457200"/>
                <a:gd name="textAreaTop" fmla="*/ 82440 h 457200"/>
                <a:gd name="textAreaBottom" fmla="*/ 374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3900"/>
                  </a:moveTo>
                  <a:lnTo>
                    <a:pt x="8699" y="3900"/>
                  </a:lnTo>
                  <a:lnTo>
                    <a:pt x="8699" y="0"/>
                  </a:lnTo>
                  <a:lnTo>
                    <a:pt x="21600" y="10800"/>
                  </a:lnTo>
                  <a:lnTo>
                    <a:pt x="8699" y="21600"/>
                  </a:lnTo>
                  <a:lnTo>
                    <a:pt x="8699" y="17700"/>
                  </a:lnTo>
                  <a:lnTo>
                    <a:pt x="3375" y="17700"/>
                  </a:lnTo>
                  <a:close/>
                </a:path>
                <a:path w="21600" h="21600">
                  <a:moveTo>
                    <a:pt x="0" y="3900"/>
                  </a:moveTo>
                  <a:lnTo>
                    <a:pt x="675" y="3900"/>
                  </a:lnTo>
                  <a:lnTo>
                    <a:pt x="675" y="17700"/>
                  </a:lnTo>
                  <a:lnTo>
                    <a:pt x="0" y="17700"/>
                  </a:lnTo>
                  <a:close/>
                </a:path>
                <a:path w="21600" h="21600">
                  <a:moveTo>
                    <a:pt x="1350" y="3900"/>
                  </a:moveTo>
                  <a:lnTo>
                    <a:pt x="2700" y="3900"/>
                  </a:lnTo>
                  <a:lnTo>
                    <a:pt x="2700" y="17700"/>
                  </a:lnTo>
                  <a:lnTo>
                    <a:pt x="1350" y="1770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505320"/>
            <a:ext cx="8305560" cy="266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99"/>
              </a:gs>
              <a:gs pos="100000">
                <a:srgbClr val="caca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(1/2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4645080"/>
            <a:ext cx="51814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279720">
              <a:lnSpc>
                <a:spcPct val="60000"/>
              </a:lnSpc>
              <a:spcAft>
                <a:spcPts val="1301"/>
              </a:spcAft>
              <a:buClr>
                <a:srgbClr val="003300"/>
              </a:buClr>
              <a:buFont typeface="Wingdings" charset="2"/>
              <a:buChar char="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Source e destination address e por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79720">
              <a:lnSpc>
                <a:spcPct val="60000"/>
              </a:lnSpc>
              <a:spcAft>
                <a:spcPts val="1301"/>
              </a:spcAft>
              <a:buClr>
                <a:srgbClr val="003300"/>
              </a:buClr>
              <a:buFont typeface="Wingdings" charset="2"/>
              <a:buChar char="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Protocol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79720">
              <a:lnSpc>
                <a:spcPct val="60000"/>
              </a:lnSpc>
              <a:spcAft>
                <a:spcPts val="1301"/>
              </a:spcAft>
              <a:buClr>
                <a:srgbClr val="003300"/>
              </a:buClr>
              <a:buFont typeface="Wingdings" charset="2"/>
              <a:buChar char=""/>
              <a:tabLst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Ampiezza dei pacchet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715000"/>
            <a:ext cx="7848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80000"/>
              </a:lnSpc>
              <a:spcBef>
                <a:spcPts val="1125"/>
              </a:spcBef>
              <a:spcAft>
                <a:spcPts val="1301"/>
              </a:spcAft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Svantaggio principale : perdita di informazioni relative agli strati superi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457200" indent="-392040"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ltra tecnica di misura del traffico:“Server log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578400"/>
            <a:ext cx="7924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1301"/>
              </a:spcAft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Si ‘segue’ la traccia dei pacchetti IP che attraversano la rete attraverso opportuni strumenti di monitoraggio (</a:t>
            </a:r>
            <a:r>
              <a:rPr b="1" i="1" lang="en-US" sz="1800" spc="-1" strike="noStrike">
                <a:solidFill>
                  <a:srgbClr val="003366"/>
                </a:solidFill>
                <a:latin typeface="Garamond"/>
              </a:rPr>
              <a:t>sniffer</a:t>
            </a: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Aft>
                <a:spcPts val="1301"/>
              </a:spcAft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Garamond"/>
              </a:rPr>
              <a:t>Dall’intestazione dei pacchetti IP si ottengono diverse informazio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981080"/>
            <a:ext cx="868680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0320" bIns="40320" anchor="t">
            <a:noAutofit/>
          </a:bodyPr>
          <a:p>
            <a:pPr marL="282600" indent="-217440" algn="just">
              <a:lnSpc>
                <a:spcPct val="90000"/>
              </a:lnSpc>
              <a:spcAft>
                <a:spcPts val="1301"/>
              </a:spcAft>
              <a:tabLst>
                <a:tab algn="l" pos="0"/>
                <a:tab algn="l" pos="1333440"/>
                <a:tab algn="l" pos="238752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  <a:tab algn="l" pos="7900920"/>
                <a:tab algn="l" pos="8277120"/>
                <a:tab algn="l" pos="8653320"/>
                <a:tab algn="l" pos="9029880"/>
                <a:tab algn="l" pos="9406080"/>
                <a:tab algn="l" pos="978228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ttenuti da misure di traffico IP in reti reali (non modelli teoric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43000" y="2590920"/>
            <a:ext cx="6553080" cy="838080"/>
            <a:chOff x="1143000" y="2590920"/>
            <a:chExt cx="6553080" cy="838080"/>
          </a:xfrm>
        </p:grpSpPr>
        <p:sp>
          <p:nvSpPr>
            <p:cNvPr id="143" name=""/>
            <p:cNvSpPr/>
            <p:nvPr/>
          </p:nvSpPr>
          <p:spPr>
            <a:xfrm>
              <a:off x="1143000" y="2590920"/>
              <a:ext cx="6553080" cy="838080"/>
            </a:xfrm>
            <a:prstGeom prst="downArrowCallout">
              <a:avLst>
                <a:gd name="adj1" fmla="val 59518"/>
                <a:gd name="adj2" fmla="val 97015"/>
                <a:gd name="adj3" fmla="val 39583"/>
                <a:gd name="adj4" fmla="val 54690"/>
              </a:avLst>
            </a:prstGeom>
            <a:gradFill rotWithShape="0">
              <a:gsLst>
                <a:gs pos="0">
                  <a:srgbClr val="800000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43000" y="259092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Strategia di misura del traffico “packet traces”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dbdbdb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66"/>
                </a:solidFill>
                <a:latin typeface="Garamond"/>
              </a:rPr>
              <a:t>Modelli di Traffico (2/2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1905120"/>
            <a:ext cx="2133720" cy="838080"/>
            <a:chOff x="0" y="1905120"/>
            <a:chExt cx="2133720" cy="838080"/>
          </a:xfrm>
        </p:grpSpPr>
        <p:sp>
          <p:nvSpPr>
            <p:cNvPr id="147" name=""/>
            <p:cNvSpPr/>
            <p:nvPr/>
          </p:nvSpPr>
          <p:spPr>
            <a:xfrm>
              <a:off x="0" y="1905120"/>
              <a:ext cx="2133720" cy="838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009e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" y="2133720"/>
              <a:ext cx="1676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0320" bIns="40320" anchor="t">
              <a:noAutofit/>
            </a:bodyPr>
            <a:p>
              <a:pPr marL="282600" indent="-217440" algn="just">
                <a:lnSpc>
                  <a:spcPct val="80000"/>
                </a:lnSpc>
                <a:spcAft>
                  <a:spcPts val="601"/>
                </a:spcAft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Garamond"/>
                </a:rPr>
                <a:t>Dati Mi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62080" y="76320"/>
          <a:ext cx="1033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6320"/>
                    <a:ext cx="1033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352680"/>
            <a:ext cx="8229600" cy="3268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9e7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2600" indent="-21744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Garamond"/>
              </a:rPr>
              <a:t>Modellizzazione del Traff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1744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La strategia di modellizzazione del traffico utilizzata è di tipo “strutturale o gerarchic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1744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La descrizione statistica del processo di generazione del traffico prevede l’uso di parametri aventi un significato fisico, es. numero di pagine di una sessione HTTP, dimensione dei pacchetti IP generati,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1744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Vantaggio : può essere adattato ad evoluzioni future del tipo di traffico nella rete, basta aggiornare i valori dei parametri consider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1744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Strategia alternativa: modellizzazione “black box”, descrizione statistica senza tener conto dei meccanismi di generazione del traf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1905120"/>
            <a:ext cx="5486400" cy="838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9e7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2600" indent="-21744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Leggi delle distribuzioni statistiche che meglio approssimano gli andamenti delle grandezze misurate</a:t>
            </a:r>
            <a:r>
              <a:rPr b="1" lang="en-US" sz="2200" spc="-1" strike="noStrike">
                <a:solidFill>
                  <a:srgbClr val="003366"/>
                </a:solidFill>
                <a:latin typeface="Garamon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057400"/>
            <a:ext cx="609480" cy="485640"/>
          </a:xfrm>
          <a:custGeom>
            <a:avLst/>
            <a:gdLst>
              <a:gd name="textAreaLeft" fmla="*/ 95040 w 609480"/>
              <a:gd name="textAreaRight" fmla="*/ 457200 w 609480"/>
              <a:gd name="textAreaTop" fmla="*/ 126720 h 485640"/>
              <a:gd name="textAreaBottom" fmla="*/ 3589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647"/>
                </a:moveTo>
                <a:lnTo>
                  <a:pt x="10294" y="5647"/>
                </a:lnTo>
                <a:lnTo>
                  <a:pt x="10294" y="0"/>
                </a:lnTo>
                <a:lnTo>
                  <a:pt x="21600" y="10800"/>
                </a:lnTo>
                <a:lnTo>
                  <a:pt x="10294" y="21600"/>
                </a:lnTo>
                <a:lnTo>
                  <a:pt x="10294" y="15953"/>
                </a:lnTo>
                <a:lnTo>
                  <a:pt x="3375" y="15953"/>
                </a:lnTo>
                <a:close/>
              </a:path>
              <a:path w="21600" h="21600">
                <a:moveTo>
                  <a:pt x="0" y="5647"/>
                </a:moveTo>
                <a:lnTo>
                  <a:pt x="675" y="5647"/>
                </a:lnTo>
                <a:lnTo>
                  <a:pt x="675" y="15953"/>
                </a:lnTo>
                <a:lnTo>
                  <a:pt x="0" y="15953"/>
                </a:lnTo>
                <a:close/>
              </a:path>
              <a:path w="21600" h="21600">
                <a:moveTo>
                  <a:pt x="1350" y="5647"/>
                </a:moveTo>
                <a:lnTo>
                  <a:pt x="2700" y="5647"/>
                </a:lnTo>
                <a:lnTo>
                  <a:pt x="2700" y="15953"/>
                </a:lnTo>
                <a:lnTo>
                  <a:pt x="1350" y="15953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251460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21320 h 762120"/>
              <a:gd name="textAreaBottom" fmla="*/ 564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88" stAng="-5400000" swAng="5400000"/>
                <a:lnTo>
                  <a:pt x="21600" y="12553"/>
                </a:lnTo>
                <a:arcTo wR="21600" hR="6888" stAng="0" swAng="1761829"/>
                <a:lnTo>
                  <a:pt x="10650" y="20705"/>
                </a:lnTo>
                <a:lnTo>
                  <a:pt x="0" y="16608"/>
                </a:lnTo>
                <a:lnTo>
                  <a:pt x="10650" y="10720"/>
                </a:lnTo>
                <a:lnTo>
                  <a:pt x="10650" y="12880"/>
                </a:lnTo>
                <a:arcTo wR="21600" hR="6888" stAng="1761829" swAng="-1270635"/>
                <a:lnTo>
                  <a:pt x="19689" y="9720"/>
                </a:lnTo>
                <a:arcTo wR="21600" hR="6888" stAng="-491195" swAng="-4908805"/>
                <a:close/>
              </a:path>
              <a:path fill="darkenLess" w="21600" h="21600">
                <a:moveTo>
                  <a:pt x="0" y="0"/>
                </a:moveTo>
                <a:arcTo wR="21600" hR="6888" stAng="-5400000" swAng="5400000"/>
                <a:lnTo>
                  <a:pt x="21600" y="12553"/>
                </a:lnTo>
                <a:arcTo wR="21600" hR="6888" stAng="0" swAng="-491195"/>
                <a:lnTo>
                  <a:pt x="19689" y="9720"/>
                </a:lnTo>
                <a:arcTo wR="21600" hR="6888" stAng="-491195" swAng="-4908805"/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4:03:56Z</dcterms:created>
  <dc:creator>Marialuisa</dc:creator>
  <dc:description/>
  <dc:language>en-US</dc:language>
  <cp:lastModifiedBy>NONE</cp:lastModifiedBy>
  <dcterms:modified xsi:type="dcterms:W3CDTF">2002-11-11T14:33:51Z</dcterms:modified>
  <cp:revision>210</cp:revision>
  <dc:subject/>
  <dc:title>TRASMISSIONI OFDM-CDMA E OFDM-TDMA CON APPLICAZIONE ALLE W-LANs</dc:title>
</cp:coreProperties>
</file>